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1CD-8325-415D-83FA-9FB2DCAD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7F1-E61D-45A5-85F1-C8CC787D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454-8684-4159-A58D-D5322ACF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8F8-014C-48F5-A4E5-5569AE80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43E-76EE-4C8D-BAC3-3DF8A127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D3A-4182-4061-A6D6-30A1D6A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397-1051-4BAD-8B20-7369B2DB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997-A729-41C1-BEAC-0152AF83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FE7-5F65-4A4E-9C5D-B6C486D7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51D-CEBB-4AA8-AB9F-EFD0FC74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BDF-202A-4D82-8D2B-813A983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FA2-8240-4B05-9BE8-0CEC226D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EB6B-3F7F-450A-BB2C-156C2C8E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6:53Z</dcterms:created>
  <dc:creator>tatumadmin</dc:creator>
  <dc:description/>
  <dc:language>en-US</dc:language>
  <cp:lastModifiedBy>tatumadmin</cp:lastModifiedBy>
  <dcterms:modified xsi:type="dcterms:W3CDTF">2009-12-04T16:50:55Z</dcterms:modified>
  <cp:revision>1</cp:revision>
  <dc:subject/>
  <dc:title>Powerpoint </dc:title>
</cp:coreProperties>
</file>